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4E9-CE84-435E-AE22-0EC0EA59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255-FEF4-4DF3-8944-4C5A5AF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FBB-D25B-4458-BA52-009BB67D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26A-BEA3-4931-AA1C-19C97A53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BA3-A904-4801-BED4-906FF98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B0E-5C33-4E68-A14F-3DC075B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C01-44CA-442F-AC0D-CDE8A5E3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CA3-88F2-4F77-B8FA-74155B4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0BA-3FDD-493F-8A58-FB5B5A12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2AD-EB02-425D-AC54-C8F98E1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8A1-8105-4FFA-B742-7FE02B1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092-4877-454E-982D-16450A8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28D1-B990-4B91-9703-7601B457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801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25 de nov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a6a6a6"/>
                </a:solidFill>
                <a:latin typeface="Arial"/>
              </a:rPr>
              <a:t>L.O.- I can explain the argentinian sport of 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sabes de deporte ‘Pato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mana pasada miramos un video de los deportes en Latinamerica vamos a ver que aprend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es son unos deportes populares en latino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deporte se juega mucho en el cari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un deporte argentino que no es muy popular en otro paises hisp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siguientes verbos EN FORMA DE 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pre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m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le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able 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pref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lo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m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lee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3/4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le 4"/>
          <p:cNvSpPr/>
          <p:nvPr/>
        </p:nvSpPr>
        <p:spPr>
          <a:xfrm>
            <a:off x="457200" y="251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cp:lastPrinted>2014-11-26T17:11:34Z</cp:lastPrinted>
  <dcterms:modified xsi:type="dcterms:W3CDTF">2014-11-30T17:44:32Z</dcterms:modified>
  <cp:revision>15</cp:revision>
  <dc:subject/>
  <dc:title>Me llamo __________ Clase 6 nh/il La fecha es el 11 de mayo del 2011</dc:title>
</cp:coreProperties>
</file>